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4CA-751F-40F2-8DF8-368A1BC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7CB-E144-4F5F-820D-8E8262C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459-E824-4C69-BA00-4E8A3EB4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5A0-D2F0-4BED-9D25-1DC63D63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A09C-E509-44E7-A3AA-71BDD6C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032F-9065-47D0-9646-7B4C5A1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E7F8-17CC-44CE-B3E5-F0BBB73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CF63-6C3D-4FCA-82F8-608F8FF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DA1-C89E-43BE-9987-0360372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7E4B-AAAC-47D7-9B99-497127BB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757-5B5C-49AC-85E0-DDBB6F7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D33-0906-48DF-B4F2-3DDFDD6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E53-770C-4263-8046-ECD63F3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FBA9-9361-4116-9E05-7041821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FC69-25B1-48B7-9BCD-39E59C3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E703-E35B-4C05-8A2B-1059F540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6AE-2BA2-4F87-8046-0F6335C0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312-0E97-49ED-81BC-35EE978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1C0-6DB3-4E80-86F7-1BC3B6A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C46-26B5-46D6-A454-0900EDA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42C-20BE-4AFE-A297-FB1F72F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DBE-9C3C-482B-A466-57A9327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31C-BB84-4210-90B7-6AD511A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C17-088C-49B6-86A4-474AC99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69B-185B-4528-A5C6-EE0B3F5208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CS%20red%20175x100" descr=""/>
          <p:cNvPicPr/>
          <p:nvPr/>
        </p:nvPicPr>
        <p:blipFill>
          <a:blip r:embed="rId2"/>
          <a:stretch/>
        </p:blipFill>
        <p:spPr>
          <a:xfrm>
            <a:off x="685800" y="4876920"/>
            <a:ext cx="2222640" cy="12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820-3381-4B52-9DB5-2F05F3115F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bed PowerPoint Dem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de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CS%20red%20175x100" descr=""/>
          <p:cNvPicPr/>
          <p:nvPr/>
        </p:nvPicPr>
        <p:blipFill>
          <a:blip r:embed="rId1"/>
          <a:stretch/>
        </p:blipFill>
        <p:spPr>
          <a:xfrm>
            <a:off x="0" y="5181480"/>
            <a:ext cx="2222640" cy="127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64771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Times New Roman"/>
              </a:rPr>
              <a:t>CamberSoft,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bed PowerPoint Dem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de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CS%20red%20175x100" descr=""/>
          <p:cNvPicPr/>
          <p:nvPr/>
        </p:nvPicPr>
        <p:blipFill>
          <a:blip r:embed="rId1"/>
          <a:stretch/>
        </p:blipFill>
        <p:spPr>
          <a:xfrm>
            <a:off x="0" y="5181480"/>
            <a:ext cx="22226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64771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Times New Roman"/>
              </a:rPr>
              <a:t>CamberSoft,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bed PowerPoint Dem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de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CS%20red%20175x100" descr=""/>
          <p:cNvPicPr/>
          <p:nvPr/>
        </p:nvPicPr>
        <p:blipFill>
          <a:blip r:embed="rId1"/>
          <a:stretch/>
        </p:blipFill>
        <p:spPr>
          <a:xfrm>
            <a:off x="0" y="5181480"/>
            <a:ext cx="2222640" cy="127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4771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Times New Roman"/>
              </a:rPr>
              <a:t>CamberSoft,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bed PowerPoint Dem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de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CS%20red%20175x100" descr=""/>
          <p:cNvPicPr/>
          <p:nvPr/>
        </p:nvPicPr>
        <p:blipFill>
          <a:blip r:embed="rId1"/>
          <a:stretch/>
        </p:blipFill>
        <p:spPr>
          <a:xfrm>
            <a:off x="0" y="5181480"/>
            <a:ext cx="2222640" cy="127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64771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Times New Roman"/>
              </a:rPr>
              <a:t>CamberSoft,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2:37:31Z</dcterms:created>
  <dc:creator>Al Hospers</dc:creator>
  <dc:description/>
  <dc:language>en-US</dc:language>
  <cp:lastModifiedBy>Al Hospers</cp:lastModifiedBy>
  <dcterms:modified xsi:type="dcterms:W3CDTF">1999-01-07T23:17:52Z</dcterms:modified>
  <cp:revision>2</cp:revision>
  <dc:subject/>
  <dc:title>Embed PowerPoint Demo</dc:title>
</cp:coreProperties>
</file>